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A0F72E-23C0-4CD5-8306-3A25655D9B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4E80E9-450C-441B-A580-1FD7A8CE35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36200-52F9-4F95-8CF0-0C0A4FD6C4C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40C49-CC57-4FBE-9309-06A6E3719D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926E2-F0A2-4120-A1C6-3F4094EE47E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C6478-44A1-4132-8CC6-9A052A6CEB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87685-380C-4160-9CA1-D13F40A548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7EEDE-3F08-4369-ADF4-89D2B846C9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07E93-8CC2-4E14-89B5-CC1AB52624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8F026-74D2-4278-8A48-27E3316A7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9D74E-E922-418D-9C4E-5AF808599E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EF90-D0E0-45E6-9E35-0AB0EDC0F0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66A4-F141-4ADD-B760-1824E68248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AF960-2572-4065-AAC9-587767F17F9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FD223-8BAC-4728-9A8A-3D07193264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2E9A-CBC7-4561-A545-913919C13F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3B86-B62E-4CBF-803C-C82636C134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8483-4323-4D52-91A6-888EFAD01E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2345-688F-4EFA-BDB0-A4A7E1508B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1D9F-E796-4F90-BAFD-6BFFCC66E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DEB3D-2566-48E6-BF71-EEA8AFB541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AF386-4444-4596-871F-989F9CAED1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B92D6-02F7-438B-B29C-0436F14759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1D25E-C427-4C4A-BAC5-D812F5D092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65EF2-56CA-4545-A43E-FE01F8CD24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06109-4DCE-4566-BD90-73C99C2E41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C8D92-8730-4F1E-B63A-C4970F76037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FFF94-3945-402D-8207-CB20F99140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F2637-0626-4645-88A1-85675FA703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677E3-EEF5-49BF-BBB7-133732ED9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6843-A97D-4F2F-ABA0-143DC0B4C4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C601B-ED87-41A1-ABF0-A214337ED73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86632-4FFE-4A39-89E3-FD693CB191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60BBF-7526-4745-BBC1-669CBB7372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F6D9-52ED-48B6-B523-DF7C45FCD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2163-8B18-4D87-AF5A-69B5985422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4FAC-0DCC-4C3C-B367-855AFC3C8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125C-C2F4-404C-A4B0-C9CA0A794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17EB-92D4-4449-AFBD-96090C464C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6808-F747-4FF8-AE3A-8D951234B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2FAB-5591-4424-9C15-8BAF94B26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547C-8D97-4BA0-BD76-18BBA76331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17A7-4009-453E-8EC8-6FB6138E5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5DBB-9E5B-4C9B-BF12-52A782FC29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63DD-DD7D-4D5A-97F5-5321DD7FAC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D5B31-CDC0-4654-BA0E-7954A4516D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689FF-69D2-4E74-95FF-DD188C86A6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45484-7A66-4DD0-86EF-658BA96040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8DBB1-767A-458D-B368-711697C5BD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13198-A830-4F0F-9EAE-F565BB838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9A58A-8633-4645-BAF0-32825BEC5A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555EA-F398-456C-AF80-7C551671F6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97C2-E12C-4568-B177-3A7493AB97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3B15-8BD6-4C64-84BB-3D809A964E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A9546-5674-430C-8469-30B9CD94D4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C3F8-BB3D-4AE5-96DC-147DFFD74E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95F01-92FD-4167-9447-6EEBCDD1D7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6D4-30A6-4F9A-A104-5789743CB9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209-DE92-4895-9A9F-251C22E9C1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047-E4B5-4B26-A3F3-9FF6E7851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98A-8C3D-4C64-A1A9-BAE2E97250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408-F2F9-46EC-BF12-F827941BC4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CB4C-D5B6-4C55-B8E5-89494124EC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7330-749F-46CE-8DFA-56C86B7BB5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1163-19D3-4F39-9F6D-2FF350991C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5968-BD3F-40FB-B96C-732C92EE9D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E2A-90E2-45EC-BE48-A6AA7DF6A8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A8E-5A93-4233-B536-D11A983A69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0953-03EC-434F-AE21-0087C86E75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3417D-A63E-448E-ACDB-CC82EBCB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0785F-6BAB-4DF5-904D-55DBED3D2E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B4455-EA60-40D8-B84D-01B0F55490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A67BC-55A2-49D6-9B48-1BEA35D6907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AC710-14AF-4B37-8532-407C60B967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C4148-02F0-455D-B1BB-83A3288948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3ADF3-F3E2-41E2-B524-B11B7071A1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60FD0-C961-4C7A-A844-8BAC761297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B25C6-E1D6-45FF-A597-953F07BABA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F43D9-1707-4A89-A08C-3652DCA296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AF21F-C03F-4CD4-8A27-5380F2294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E2C60-2E74-4508-A8AD-74E9BD1077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7F39F-2FE4-46E5-A850-0EE56BEE2D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E4095-B3F0-4A39-9FA0-209F450B3FC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9D881-4038-4631-AC10-29F0C61034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ECC28-6369-4EB5-9D4A-DEEEE74FF7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F5C42-590C-40F5-8241-7026B6877E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F41A1-7841-42C9-B646-C6FD30E792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54F31-163F-49FC-B61F-5E98CBA446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A114E-330A-41E6-93C5-E351972B4F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E39D2-D28D-4790-BE55-EA1DE60F6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84FD8-89A3-478D-9330-39B7D8DCB5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89E2F-EB5E-4076-B8DB-3D67FD18D8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A1717-C15B-43DA-9088-61DA6EC2E1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AA83-6985-4A3F-A496-428E16DFEA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C55C-C401-4A16-8525-F746B385B2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E76E-1BEB-4E92-863F-7F3ADFCBEC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E3AB-CD6F-4E94-8A2C-A8FA708285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78F8-708F-494D-84CB-F0A9464217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F4A3-1A62-494E-872B-25C0F7F1A6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5165-D49E-4B80-89B4-3BB6B7D6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9DB5-77E5-4CE1-B7F2-07347A9E79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1EFB-A314-4CFC-84EF-77A82E863D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B938-8753-428B-B463-F810012F6C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012AA-948B-4351-84C9-35DB1FF4D9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9705-D2C7-4AC1-B51F-89DE766763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99DB1-EFFF-4076-8E12-B0857C786B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0F4F0-83D2-4FE4-ACB8-90B31A5852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B442D-5103-4C9D-9F05-F0FE8BED92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3EA54-96F0-472C-B762-90C6F1FD2A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252B8-E816-4C65-8219-07A6C3FAE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6204A-50EB-460B-905B-8A3290D062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EDCCA-F5A1-46E7-8ECE-8933197DCB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64FCE-D6D3-41A9-AA54-1DA78E64DD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49057-3E25-40C6-A133-A9705AE78C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B2FBC-CF44-4D85-A639-DF8D1C4F6B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6688F-5FFC-4620-AF50-D6CDAB90D4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FFC4D-C26F-46BD-A0C1-2FC19EE685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9140F-863A-4A5E-AADA-DFFE56D0E3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4327E-2AB5-4F73-8677-1E66A01024B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5D676-1DB6-4D87-AD72-2FEA44BD3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157-A527-4732-AF30-378A0F9AC6F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E4A5-2337-45F4-AB83-23602862116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709A-A378-409B-8DD7-84A2B7F8EF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2F0-637F-44F5-9F0C-8F547E35F8E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CA98-7EC5-4C64-B068-C56B2096319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13C-DA0F-4FAC-8A49-F417F0A4411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19C-B90B-4F45-B687-D91D53AD015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5E92-B7EE-4D77-96FB-1C25B73649B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E6D-4A2E-4B0D-952F-052C2427A4C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7F4F-CEE8-4FB0-A9ED-65485F65B5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125360"/>
            <a:ext cx="821556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Etica professional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ocente: Prof. Piercarlo Maggiolin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mestre: 2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ngua di erogazione: italian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° max studenti ammessi: 40 Polimi +15 Erasmu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dalità d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ame per non frequentanti: identica ai frequentanti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rogramm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E PREMESS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: Cosa cambia nella transizione verso la società post-industriale e relativi valori; globalizzazione; sviluppo sostenibile…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NTRODUZIONE ALL</a:t>
            </a:r>
            <a:r>
              <a:rPr b="1" i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TIC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: i principali principi etici, le sfide etiche contemporanee. Il principio responsabilità e di precauzione…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LEMENTI PER UN</a:t>
            </a:r>
            <a:r>
              <a:rPr b="1" i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TICA PROFESSIONALE: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l concetto di professione e relativa evoluzione; i principali dilemmi etici: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ensioni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del professionista coi suoi vari stakeholder; i principi dell’etica professionale e loro articolazioni: testimonianze ed esempi di codici etici nelle professioni regolamentate e non regolamentate. La responsabilità sociale delle organizzazioni (sicurezza sul lavoro, corruzione…)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MBITI APPLICATIV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: Etica nel design e, più in generale, nella progettazione; etica nella consulenza; etica ambientale; etica nelle tecnologie dell’informazione e comunicazione: Etica e Internet – La proprietà intellettuale – La privacy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Metodologia didattic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a metodologia didattica prevede: lezioni in aula, seminari di esperti, testimonianze e studi di caso, lavori in piccoli gruppi per produrre elaborati monografici di approfondiment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Valutazion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esame conclusivo sarà orale sui contenuti del corso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l voto finale concorrono in misura non superiore al 50% le relazioni (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facoltative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) di approfondimento scritte su temi del corso svolte e discusse in aula durante l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nno. La frequenza non è obbligatoria. Non ci sono prove in itiner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ossibilità di sostenere l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esame, oltre che in italiano, anche in inglese, francese, spagnolo, portoghes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Piercarlo Maggiolini</cp:lastModifiedBy>
  <cp:lastPrinted>2003-05-08T11:08:41Z</cp:lastPrinted>
  <dcterms:modified xsi:type="dcterms:W3CDTF">2014-07-09T10:34:59Z</dcterms:modified>
  <cp:revision>206</cp:revision>
  <dc:subject/>
  <dc:title>Inserire immagine della locandina, possibilmente in trasparenza e aggiungere Facoltà di Architettura Illustrazione prova di ammissione prof. Silvia Piardi (idem Cedolin)</dc:title>
</cp:coreProperties>
</file>